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109-9A6A-409B-B3E9-85ED63D1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317-0B90-46C3-A1F2-CDFF4D51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BEF-B4DE-4892-AF90-9F4F9F39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A8B-DCFE-4C72-89B7-76670558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08D-925A-4789-97F2-5B1CA933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4BB-F08C-439B-AC83-783DAB95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64B-6194-402E-A33A-FDEAD5CB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E92-8DAA-4DF6-AD8B-E9DE3750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E07-CDFE-4ED6-A5AB-C087826F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F9E-4F87-4F33-AC16-459DE95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B30-FFF6-48CD-887C-D6CD5EBE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5EA-04E1-452C-851B-48AA992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753A-F136-4682-84CF-67ECD9E5E44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7 Z večera, keď všade vôk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ečera, keď všade vôko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nie nám vtáčat milý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čítaj, koľko dobroden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ti preukázal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j piesne ozvenou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erné, keď rastú tie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mätaj na onen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torom radosť neskalí u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esť ani smrti tie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j piesne ozvenou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erná, keď hviezda sv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mätaj na vier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nám večne žiariť bud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, náš Pán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j piesne ozvenou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46:31Z</dcterms:modified>
  <cp:revision>59</cp:revision>
  <dc:subject/>
  <dc:title>Je veľký náš Pán, on slávy je Kráľ Nech do všetkých strán  spev vrúcnych znie chvál.</dc:title>
</cp:coreProperties>
</file>